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86D-5C57-4385-AAE9-C8164415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1A3-A26D-4560-B2F4-30B599C8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271-A1E6-4057-BB46-805BCF8C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A4F-7574-4FAA-ADB5-353DE104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5467F-DA62-482B-A99D-D8B0AF88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B7921-CCF1-457A-803C-DD31E536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C2C70-5D9E-423D-A54F-8AE92A73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EED94-FF2F-4193-858E-D0BBA00C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FA45B-A929-44EA-B8B2-ED19C873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38FB0-2B2E-4455-8C1D-A3B20999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EE536-B4AF-490F-AD90-BEBBC01D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BFF-63C1-4636-8BD7-A87CE98C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48157-0BE5-4BF2-88F7-44B804EA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1B847-D26C-4830-B2A8-713DAA25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D04B0-D420-4EF6-A662-151D4C02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5FDC6-65E1-4807-9C32-96FD1970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53B89-210F-4A4D-BAC6-727ADE30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DD6-D8D4-43E6-AFA9-3770EEBB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280-298F-4637-8736-3EE94FA9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CCE-250A-4C40-8309-B3EB44F5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89F-7D69-4BA7-A0D8-9D983C64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041-56B1-4A20-8857-65F6E6CA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2A9-ABA5-4A64-99D8-6578FFF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32C-EC11-42F0-9B7C-1066C5EB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8D19-E430-4D50-A7A5-BF49DDBB0F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C4F3-26A1-4D4F-B898-4D8C3F3718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Тема: АУДИТ МП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69080" y="6237360"/>
            <a:ext cx="10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Arial"/>
              </a:rPr>
              <a:t>Слайд №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49360"/>
            <a:ext cx="0" cy="9367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79280" y="1268280"/>
            <a:ext cx="66261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1484280"/>
            <a:ext cx="820872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  <a:ea typeface="Arial"/>
              </a:rPr>
              <a:t>Перечень нормативных докумен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  <a:ea typeface="Arial"/>
              </a:rPr>
              <a:t>Источники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  <a:ea typeface="Arial"/>
              </a:rPr>
              <a:t>Цель аудита МПЗ и основные задачи, решаемые в ходе проведения прове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  <a:ea typeface="Arial"/>
              </a:rPr>
              <a:t>Методика проверки МП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Процедура 0.1. Проверка начальных остат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49360"/>
            <a:ext cx="0" cy="1079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79280" y="1413000"/>
            <a:ext cx="66261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1484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584360"/>
            <a:ext cx="856944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Источники информаци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446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Бухгалтерский баланс (форма N 1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446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Сводные регистры синтетического учета (Главная книга, оборотно-сальдовая ведомость, ведомость остатков по синтетическим счетам и т.д.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446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Регистры аналитического учета (аналитические ведомости, книги остатков, карточки складского учета и т.д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Все документы берутся за аудируемый и предшествующий аудируемому период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Порядок выполнения: Путем сопоставления данных регистров бухгалтерского учета и бухгалтерской отчетности на начало проверяемого периода и конец периода, предшествующего проверяемому, убедиться в том, что сальдо по счетам N 10, 11, 14, 15, 16, 40, 41, 42, 43 корректно перенесено из предыдущего периода и не содержит искажений. Результаты сверки оформить в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Times New Roman"/>
                <a:ea typeface="Arial"/>
                <a:hlinkClick r:id="rId1" action="ppaction://hlinksldjump"/>
              </a:rPr>
              <a:t>таблице РД-0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33360" y="216000"/>
          <a:ext cx="8337600" cy="924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16000"/>
                    <a:ext cx="8337600" cy="924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должение рабочего документа РД -0.1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6400" y="914400"/>
          <a:ext cx="798228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914400"/>
                    <a:ext cx="798228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71640" y="1484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89000"/>
            <a:ext cx="8569080" cy="61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Arial"/>
              </a:rPr>
              <a:t>Процедура 0.2: Проверка соответствия остатков аналитического и синтетического учета и бухгалтерской отчет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Источники информаци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446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Бухгалтерский баланс (форма N 1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446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Сводные регистры синтетического учета (Главная книга, оборотно-сальдовая ведомость, ведомость остатков по синтетическим счетам и т.д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4446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  <a:ea typeface="Arial"/>
              </a:rPr>
              <a:t>Регистры аналитического учета (аналитические ведомости, книги остатков, карточки складского учета и т.д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Tahoma"/>
                <a:ea typeface="Arial"/>
              </a:rPr>
              <a:t>Порядок выполнения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: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 Составить таблицу остатков на начало и конец проверяемого периода по субсчетам счетов N 10, 11, 14, 15, 16, 40, 41, 42, 43. Сверить сальдо на начало и конец проверяемого периода по бухгалтерскому балансу (форма N 1) с Главной книгой. Результаты сверки оформить в </a:t>
            </a:r>
            <a:r>
              <a:rPr b="0" lang="en-US" sz="2200" spc="-1" strike="noStrike" u="sng">
                <a:solidFill>
                  <a:srgbClr val="ffcc00"/>
                </a:solidFill>
                <a:uFillTx/>
                <a:latin typeface="Tahoma"/>
                <a:ea typeface="Arial"/>
                <a:hlinkClick r:id="rId1" action="ppaction://hlinksldjump"/>
              </a:rPr>
              <a:t>таблице РД-0.2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Tahoma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Рабочий документ РД – 0.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00400" y="251460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514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50920" y="544680"/>
          <a:ext cx="8893080" cy="6313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680"/>
                    <a:ext cx="8893080" cy="63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Процедура 0.3: Проверка соответствия Учетной политики в части раскрытия способов ведения бухгалтерского учета МПЗ действующему законодательству и иным нормативным ак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89000"/>
            <a:ext cx="0" cy="1798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79280" y="1773360"/>
            <a:ext cx="66261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484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141720"/>
            <a:ext cx="8569080" cy="22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  <a:ea typeface="Arial"/>
              </a:rPr>
              <a:t>Источник информации: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  <a:ea typeface="Arial"/>
              </a:rPr>
              <a:t>Приказ об учетной политике предприя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Порядок выполнения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: заполнить в соответствии с приказом об учетной политике рабочий документ </a:t>
            </a:r>
            <a:r>
              <a:rPr b="0" lang="en-US" sz="2200" spc="-1" strike="noStrike" u="sng">
                <a:solidFill>
                  <a:srgbClr val="ffcc00"/>
                </a:solidFill>
                <a:uFillTx/>
                <a:latin typeface="Tahoma"/>
                <a:ea typeface="Arial"/>
                <a:hlinkClick r:id="rId1" action="ppaction://hlinksldjump"/>
              </a:rPr>
              <a:t>РД-0.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бочий документ – РД-0.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692280"/>
          <a:ext cx="9289800" cy="61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928980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ыявленные расхождения фиксируются в отчетном документе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ОД-0.3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и оцениваются их влияние на достоверность финансовой отчетности. Применение методов учета, противоречащих действующим нормативным документам может являться основанием для выдачи аудиторского заключения, отличного от безоговорочно положительног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0920" y="2708280"/>
            <a:ext cx="82184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199"/>
                </a:solidFill>
                <a:latin typeface="Tahoma"/>
              </a:rPr>
              <a:t>Отчетный документ ОД-0.3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3357720"/>
          <a:ext cx="8424720" cy="2600280"/>
        </p:xfrm>
        <a:graphic>
          <a:graphicData uri="http://schemas.openxmlformats.org/drawingml/2006/table">
            <a:tbl>
              <a:tblPr/>
              <a:tblGrid>
                <a:gridCol w="718920"/>
                <a:gridCol w="1800360"/>
                <a:gridCol w="2808360"/>
                <a:gridCol w="3097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Содержание нару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Ссылка на нормативный докуме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  <a:ea typeface="Arial"/>
                        </a:rPr>
                        <a:t>Влияние на бухгалтерскую отчет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1. Перечень нормативных докумен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7669080" y="6237360"/>
            <a:ext cx="10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Arial"/>
              </a:rPr>
              <a:t>Слайд №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49360"/>
            <a:ext cx="0" cy="9367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9280" y="1268280"/>
            <a:ext cx="66261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68520"/>
            <a:ext cx="9144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1. Федеральный закон от 21.11.1996 N 129-ФЗ (ред. от 30.06.2003) "О бухгалтерском учете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2. Приказ Минфина РФ от 29.07.1998 N 34н (ред. от 24.03.2000) "Об утверждении положения по ведению бухгалтерского учета и бухгалтерской отчетности в Российской Федерации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3. Приказ Минфина РФ от 09.06.2001 N 44н "Об утверждении положения по бухгалтерскому учету "Учет материально-производственных запасов" ПБУ 5/01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4. Приказ Минфина РФ от 28.12.2001 N 119н (ред. от 23.04.2002) "Об утверждении методических указаний по бухгалтерскому учету материально-производственных запасов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5. Приказ Минфина РФ от 31.10.2000 N 94н (ред. от 07.05.2003) "Об утверждении плана счетов бухгалтерского учета финансово-хозяйственной деятельности организаций и инструкции по его применению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6. Приказ Минфина РФ от 09.12.1998 N 60н (ред. от 30.12.1999) "Об утверждении положения по бухгалтерскому учету "Учетная политика организации" ПБУ 1/98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7. Приказ Минфина РФ от 06.07.1999 N 43н "Об утверждении положения по бухгалтерскому учету "Бухгалтерская отчетность организации" (ПБУ 4/99)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8. Приказ Минфина РФ от 10.01.2000 N 2н "Об утверждении положения по бухгалтерскому учету "Учет активов и обязательств, стоимость которых выражена в иностранной валюте" ПБУ 3/2000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9. Приказа Минфина РФ от 22.07.2003 N 67н "О формах бухгалтерской отчетности организаций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10. Приказ Минфина РФ от 13.06.1995 N 49 "Об утверждении методических указаний по инвентаризации имущества и финансовых обязательств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Times New Roman"/>
                <a:ea typeface="Arial"/>
              </a:rPr>
              <a:t>11. Постановление Госкомстата РФ от 30.10.1997 N 71а (ред. от 21.01.2003) "Об утверждении унифицированных форм первичной учетной документации по учету труда и его оплаты, основных средств и нематериальных активов, материалов, малоценных и быстроизнашивающихся предметов, работ в капитальном строительстве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2000" y="188640"/>
            <a:ext cx="86425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12. Приказ Минсельхоза РФ от 31 января 2003 г. N 26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"Об утверждении Методических рекомендаций по бухгалтерскому учету материально-производственных запасов в сельскохозяйственных организациях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13. Приказ Минсельхоза РФ от 13 июня 2001 г. N 654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"Об утверждении Плана счетов бухгалтерского учета финансово-хозяйственной деятельности предприятий и организаций агропромышленного комплекса и Методических рекомендаций по его применению"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14. Постановление Госкомстата РФ от 29 сентября 1997 г. N 68 «Об утверждении унифицированных форм первичной учетной документации по учету сельскохозяйственной продукции и сырья»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2. ИСТОЧНИКИ ИНФОРМ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669080" y="6237360"/>
            <a:ext cx="10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Arial"/>
              </a:rPr>
              <a:t>Слайд № 8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549360"/>
            <a:ext cx="0" cy="9367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79280" y="1268280"/>
            <a:ext cx="66261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1484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2200" y="1428840"/>
            <a:ext cx="82278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Информационной базой для проверки материально-производственных запасов являютс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Приказ об учетной полити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Первичные документы по оформлению операций с МПЗ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Бухгалтерская отчетность предприятия и бухгалтерские регистры по учету МПЗ и д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</a:rPr>
              <a:t>3. Цель аудита МПЗ и основные задачи, решаемые в ходе проведения провер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669080" y="6237360"/>
            <a:ext cx="10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Arial"/>
              </a:rPr>
              <a:t>Слайд №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333360"/>
            <a:ext cx="0" cy="17287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79280" y="1844640"/>
            <a:ext cx="66261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2852640"/>
            <a:ext cx="7848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Целью аудита МПЗ является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Tahoma"/>
                <a:ea typeface="Arial"/>
              </a:rPr>
              <a:t>выражение мнения о достоверности и полноте отражения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 в финансовой (бухгалтерской) отчетности аудируемых лиц информации об МП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Основные задачи, решаемые в ходе проведения провер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В ходе проверки проводится сбор аудиторских доказательств по следующим критерия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 Существование</a:t>
            </a: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. Необходимо убедиться в том, что все отраженные в отчетности МПЗ действительно существу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рава и обязательства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 Необходимо убедиться в том, что права организации на МПЗ, отраженные в отчетности, документально подтверждены и не ограничены правами третьих ли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озникновение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 Необходимо убедиться в том, что отраженные в бухгалтерском учете операции по приобретению и выбытию МПЗ имели место в течение отчетного пери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олнота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 Необходимо убедиться в том, что отсутствуют МПЗ, которые должны были быть отражены в бухгалтерском учете и отчетности, но не были в нем отраже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7669080" y="6381720"/>
            <a:ext cx="10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Arial"/>
              </a:rPr>
              <a:t>Слайд №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2000" y="26028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Стоимостная оценка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 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Убедиться в том, что МПЗ отражены в учете и отчетности в правильной оценк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Убедиться в том, что способ оценки МПЗ при их отпуске в производство или ином выбытии применяется в соответствии с принятой организацией учетной политик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змерение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 Необходимо убедиться в том, что приобретение и выбытие МПЗ отражены в учете в правильной оценке и в соответствующем отчетном перио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7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редставление и раскрытие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 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Убедиться в том, что МПЗ правильно классифицированы в отчетности как сырье и материалы, готовая продукция, товары для перепродаж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Убедиться в том, что операции с МПЗ отражены в бухгалтерском учете в соответствии с нормативными актами, регламентирующими порядок ведения бухгалтерского учета в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669080" y="6237360"/>
            <a:ext cx="106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  <a:ea typeface="Arial"/>
              </a:rPr>
              <a:t>Слайд №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4. Методика проверки МП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49360"/>
            <a:ext cx="0" cy="9367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79280" y="1268280"/>
            <a:ext cx="66261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484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2200" y="1428840"/>
            <a:ext cx="82278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Сбор аудиторских доказательств осуществляется путем проведения аудиторских процедур, которые осуществляются в 3 этап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44600">
              <a:lnSpc>
                <a:spcPct val="150000"/>
              </a:lnSpc>
              <a:buClr>
                <a:srgbClr val="cc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ы подготовки и планирования ауди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44600">
              <a:lnSpc>
                <a:spcPct val="150000"/>
              </a:lnSpc>
              <a:buClr>
                <a:srgbClr val="cc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ы, выполняемые в ходе проверки по существ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44600">
              <a:lnSpc>
                <a:spcPct val="150000"/>
              </a:lnSpc>
              <a:buClr>
                <a:srgbClr val="cc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Заключительные процедур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4.1. Процедуры подготовки и планирования ауди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49360"/>
            <a:ext cx="0" cy="1079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79280" y="1413000"/>
            <a:ext cx="66261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484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  <a:ea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760" y="1701720"/>
            <a:ext cx="87152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а 0.1. Проверка начальных остат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а 0.2. Проверка соответствия остатков аналитического и синтетического учета и бухгалтерской отчет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а 0.3. Проверка соответствия учетной политики в части раскрытия способов ведения бухучета МПЗ действующему законодательству и иным нормативным ак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а 0.4. Тестирование системы внутреннего контро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а 0.5. Анализ применяемого порядка приобретения материа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а 0.6. Анализ методики учета тов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а 0.7. Анализ применяемого порядка отражения операций с возвратной и оборотной та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а 0.8. Анализ методики учета готово продук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  <a:ea typeface="Arial"/>
              </a:rPr>
              <a:t>Процедура 0.9. Выявление приоритетных направлений проверки исходя из особенностей деятельности организации-клие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  <a:ea typeface="Arial"/>
              </a:rPr>
              <a:t>Завершаются процедуры подготовки и планирования аудита построением аудиторской выбор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1:07:47Z</dcterms:created>
  <dc:creator>Jugo</dc:creator>
  <dc:description/>
  <dc:language>en-US</dc:language>
  <cp:lastModifiedBy>Вика</cp:lastModifiedBy>
  <dcterms:modified xsi:type="dcterms:W3CDTF">2006-09-11T21:05:51Z</dcterms:modified>
  <cp:revision>68</cp:revision>
  <dc:subject/>
  <dc:title>Слайд 1</dc:title>
</cp:coreProperties>
</file>